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547-EF02-48A8-811C-5C6BB7A1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440-E6C7-4526-ABAD-C12EC09A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17B-2600-467B-BD90-81AFBD28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427-D0DC-47DC-8F97-DDA3A518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9C0-9144-43F1-9F5B-C51FC89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435-D03B-4591-B409-451069A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8D3-5680-4C02-BE61-C4C2084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46E-B94E-4F10-AD52-63D770CD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AFB-D347-4369-BCB1-10BC999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481-8F6D-419E-9848-C9E475C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1B6-1173-4705-B8E9-C7BBB9D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063-CC11-4976-A039-C7D2759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806-6B38-4E0C-928D-B1EE310D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reasy Govern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s serve a term for six years and may be elected for back-to-back term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 </dc:creator>
  <dc:description/>
  <dc:language>en-US</dc:language>
  <cp:lastModifiedBy> </cp:lastModifiedBy>
  <dcterms:modified xsi:type="dcterms:W3CDTF">2010-12-14T15:41:19Z</dcterms:modified>
  <cp:revision>2</cp:revision>
  <dc:subject/>
  <dc:title>Present Day Russia</dc:title>
</cp:coreProperties>
</file>